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77B-8877-45DF-8A8B-270B6E5E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4EB-F822-4E5A-BF3F-2C5F959F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11D-2074-4210-8731-A82539F7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735-CC02-4A0A-9160-F3111D85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00A-B9EF-4484-A40C-5A965DAD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058-1E24-455F-BB7E-6B6822A4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8DC-49A9-4551-A3BA-E3A06C06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B75-2CD3-4A6D-AC4F-B69E315A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0CA-9333-4B56-9FE3-92279354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ACE-23E8-4008-8E5F-B3C29100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C0C-7515-4CFD-9C84-75A63DD7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1C8-155D-486B-86F2-32A4079D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0AB3-6A94-40EB-A25C-BB584EB2AB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recursos.fgsr.es/juegos/totem/" TargetMode="External"/><Relationship Id="rId4" Type="http://schemas.openxmlformats.org/officeDocument/2006/relationships/hyperlink" Target="http://recursos.fgsr.es/juegos/totem2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odas.educarchile.cl/objetos_digitales/odas_sociedad/grandes_civilizaciones_prehispanicas/odea5_2_E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6877798697_1f30060b9d_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5003640" y="260280"/>
            <a:ext cx="414036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MPIEZA EL CON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¡¡A JUGA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Reloj"/>
          <p:cNvPicPr/>
          <p:nvPr/>
        </p:nvPicPr>
        <p:blipFill>
          <a:blip r:embed="rId2"/>
          <a:stretch/>
        </p:blipFill>
        <p:spPr>
          <a:xfrm>
            <a:off x="5724360" y="2349360"/>
            <a:ext cx="1008360" cy="1008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7020000" y="2708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 h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psiqueviva.com/wp-content/uploads/2013/06/Creatividad_Proceso.png"/>
          <p:cNvPicPr/>
          <p:nvPr/>
        </p:nvPicPr>
        <p:blipFill>
          <a:blip r:embed="rId1"/>
          <a:stretch/>
        </p:blipFill>
        <p:spPr>
          <a:xfrm>
            <a:off x="5580000" y="1557360"/>
            <a:ext cx="2998800" cy="3284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468360" y="1197000"/>
            <a:ext cx="468000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Arial"/>
              </a:rPr>
              <a:t>Proces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 orden los grupos, de uno en uno, saldrán a la pizarra digital para responder a la pregunta que le ha correspondido. Si no acierta será el siguiente grupo el que responda a la pregu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Y la evalu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3"/>
          <p:cNvSpPr/>
          <p:nvPr/>
        </p:nvSpPr>
        <p:spPr>
          <a:xfrm>
            <a:off x="1908000" y="1341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68360" y="2060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profesora irá anotando las respuestas positivas y negativas de cada grupo que tendrá en cuenta a la hora de evalu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1262765-evaluacia-n-de-la-encuesta-de-calidad"/>
          <p:cNvPicPr/>
          <p:nvPr/>
        </p:nvPicPr>
        <p:blipFill>
          <a:blip r:embed="rId1"/>
          <a:stretch/>
        </p:blipFill>
        <p:spPr>
          <a:xfrm>
            <a:off x="3924360" y="3284640"/>
            <a:ext cx="4714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totem-canada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stanley-park-totem-poles-vancouver-cdn1273"/>
          <p:cNvPicPr/>
          <p:nvPr/>
        </p:nvPicPr>
        <p:blipFill>
          <a:blip r:embed="rId2"/>
          <a:stretch/>
        </p:blipFill>
        <p:spPr>
          <a:xfrm>
            <a:off x="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87280" y="5013000"/>
            <a:ext cx="3600360" cy="168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Juego del To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ª p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2ª p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560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763640" y="6021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9:47:45Z</dcterms:created>
  <dc:creator>IR015252AG</dc:creator>
  <dc:description/>
  <dc:language>en-US</dc:language>
  <cp:lastModifiedBy>IR015252AG</cp:lastModifiedBy>
  <dcterms:modified xsi:type="dcterms:W3CDTF">2014-03-06T09:48:00Z</dcterms:modified>
  <cp:revision>1</cp:revision>
  <dc:subject/>
  <dc:title>Diapositiva 1</dc:title>
</cp:coreProperties>
</file>